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2.png" ContentType="image/png"/>
  <Override PartName="/ppt/media/image11.wmf" ContentType="image/x-wmf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4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7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565C-5B1B-47F6-B243-2B3C61E3D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7FBA-F34F-4E22-A48E-AFEC36874DEE}" type="slidenum">
              <a:rPr b="0" lang="en-IN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C792-FEA5-4912-9562-5749A013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5B10-4E88-4EFE-B9A4-50F79A2B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FBFE-1557-4E23-A617-374982B7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83A7-4523-4ACC-A6B2-886F338C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58A8-4FA3-4784-9E56-EE12535D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E6E-2BE6-4E6E-AEDA-16C65B79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5675-CF24-4D8F-869A-E0F50A41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A39B-E62B-4B09-A9A2-077E0A81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19F4-7B7C-44DE-914D-C6C66A8C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D35E-6B42-46D4-9400-7D605A37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FDE7-4977-4027-B075-0C279D74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912B-DCD5-4216-83D1-DC9EE0BB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DF66-E636-4492-AC54-F611E8401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5" descr=""/>
          <p:cNvPicPr/>
          <p:nvPr/>
        </p:nvPicPr>
        <p:blipFill>
          <a:blip r:embed="rId1"/>
          <a:stretch/>
        </p:blipFill>
        <p:spPr>
          <a:xfrm>
            <a:off x="-7920" y="1523880"/>
            <a:ext cx="9144000" cy="2438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4267080" y="457200"/>
            <a:ext cx="2362320" cy="762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DSC00631.JPG"/>
          <p:cNvPicPr/>
          <p:nvPr/>
        </p:nvPicPr>
        <p:blipFill>
          <a:blip r:embed="rId3"/>
          <a:stretch/>
        </p:blipFill>
        <p:spPr>
          <a:xfrm>
            <a:off x="0" y="5105520"/>
            <a:ext cx="2133720" cy="1752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1" name="AutoShape 27"/>
          <p:cNvSpPr/>
          <p:nvPr/>
        </p:nvSpPr>
        <p:spPr>
          <a:xfrm>
            <a:off x="0" y="-83808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"/>
          <p:cNvPicPr/>
          <p:nvPr/>
        </p:nvPicPr>
        <p:blipFill>
          <a:blip r:embed="rId4"/>
          <a:stretch/>
        </p:blipFill>
        <p:spPr>
          <a:xfrm>
            <a:off x="0" y="1752480"/>
            <a:ext cx="2133720" cy="1752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3" name="Picture 2" descr=""/>
          <p:cNvPicPr/>
          <p:nvPr/>
        </p:nvPicPr>
        <p:blipFill>
          <a:blip r:embed="rId5"/>
          <a:stretch/>
        </p:blipFill>
        <p:spPr>
          <a:xfrm>
            <a:off x="0" y="0"/>
            <a:ext cx="2133720" cy="1752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4" name="Picture 3" descr="C:\Documents and Settings\Administrator\Desktop\MSETCL award\400 KV RS KARAD PHOTOS\400kv rs karad  photos - Copy\3.Control room\control room.JPG"/>
          <p:cNvPicPr/>
          <p:nvPr/>
        </p:nvPicPr>
        <p:blipFill>
          <a:blip r:embed="rId6"/>
          <a:stretch/>
        </p:blipFill>
        <p:spPr>
          <a:xfrm>
            <a:off x="0" y="3505320"/>
            <a:ext cx="2133720" cy="1600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55" name="Rectangle 15"/>
          <p:cNvGrpSpPr/>
          <p:nvPr/>
        </p:nvGrpSpPr>
        <p:grpSpPr>
          <a:xfrm>
            <a:off x="2425680" y="4022640"/>
            <a:ext cx="6273720" cy="860400"/>
            <a:chOff x="2425680" y="4022640"/>
            <a:chExt cx="6273720" cy="860400"/>
          </a:xfrm>
        </p:grpSpPr>
        <p:pic>
          <p:nvPicPr>
            <p:cNvPr id="56" name="Rectangle 15" descr=""/>
            <p:cNvPicPr/>
            <p:nvPr/>
          </p:nvPicPr>
          <p:blipFill>
            <a:blip r:embed="rId7"/>
            <a:stretch/>
          </p:blipFill>
          <p:spPr>
            <a:xfrm>
              <a:off x="2425680" y="4022640"/>
              <a:ext cx="627372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438280" y="4038480"/>
              <a:ext cx="6248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alibri"/>
                </a:rPr>
                <a:t>Presentation b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Calibri"/>
                </a:rPr>
                <a:t>Maharashtra State Load Despatch Cent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 Box 12"/>
          <p:cNvSpPr/>
          <p:nvPr/>
        </p:nvSpPr>
        <p:spPr>
          <a:xfrm>
            <a:off x="2362320" y="2236680"/>
            <a:ext cx="6781680" cy="947160"/>
          </a:xfrm>
          <a:prstGeom prst="rect">
            <a:avLst/>
          </a:prstGeom>
          <a:solidFill>
            <a:srgbClr val="c3d69b">
              <a:alpha val="45000"/>
            </a:srgbClr>
          </a:solidFill>
          <a:ln cap="sq"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Receipt of Real Time/ Daily Renewable Energy Generatio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Rectangle 10"/>
          <p:cNvGrpSpPr/>
          <p:nvPr/>
        </p:nvGrpSpPr>
        <p:grpSpPr>
          <a:xfrm>
            <a:off x="2577960" y="5467320"/>
            <a:ext cx="6274080" cy="495360"/>
            <a:chOff x="2577960" y="5467320"/>
            <a:chExt cx="6274080" cy="495360"/>
          </a:xfrm>
        </p:grpSpPr>
        <p:pic>
          <p:nvPicPr>
            <p:cNvPr id="60" name="Rectangle 10" descr=""/>
            <p:cNvPicPr/>
            <p:nvPr/>
          </p:nvPicPr>
          <p:blipFill>
            <a:blip r:embed="rId8"/>
            <a:stretch/>
          </p:blipFill>
          <p:spPr>
            <a:xfrm>
              <a:off x="2577960" y="5467320"/>
              <a:ext cx="627408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590920" y="5486400"/>
              <a:ext cx="62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04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Calibri"/>
                </a:rPr>
                <a:t>th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 May, 20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SE-SCADA\Desktop\MSREWIND_03.05.18.bmp"/>
          <p:cNvPicPr/>
          <p:nvPr/>
        </p:nvPicPr>
        <p:blipFill>
          <a:blip r:embed="rId1"/>
          <a:stretch/>
        </p:blipFill>
        <p:spPr>
          <a:xfrm>
            <a:off x="76320" y="76320"/>
            <a:ext cx="899136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91360" cy="6629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304920"/>
          <a:ext cx="8305920" cy="5790960"/>
        </p:xfrm>
        <a:graphic>
          <a:graphicData uri="http://schemas.openxmlformats.org/drawingml/2006/table">
            <a:tbl>
              <a:tblPr/>
              <a:tblGrid>
                <a:gridCol w="1706400"/>
                <a:gridCol w="949320"/>
                <a:gridCol w="1368720"/>
                <a:gridCol w="866520"/>
                <a:gridCol w="1125720"/>
                <a:gridCol w="1177920"/>
                <a:gridCol w="1111320"/>
              </a:tblGrid>
              <a:tr h="541080">
                <a:tc gridSpan="7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HARASHTRA STATE INSTALLED CAPACITY 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as on 31.03.201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2200">
                <a:tc gridSpan="7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harashtra System Peak Installed Derated Capacity along with its CS Sh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ul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3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PG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86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83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86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P / CP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85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(M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3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06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3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4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63" name="Rectangle 2"/>
          <p:cNvSpPr/>
          <p:nvPr/>
        </p:nvSpPr>
        <p:spPr>
          <a:xfrm>
            <a:off x="462960" y="6248520"/>
            <a:ext cx="422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*) RGPPL 95 % capacity to MSEDCL, Not avail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7848720" y="76320"/>
            <a:ext cx="12189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146160" y="990720"/>
          <a:ext cx="885348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990720"/>
                    <a:ext cx="88534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Picture 7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2189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3"/>
          <p:cNvGraphicFramePr/>
          <p:nvPr/>
        </p:nvGraphicFramePr>
        <p:xfrm>
          <a:off x="228600" y="762120"/>
          <a:ext cx="86868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6868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Rectangle 2"/>
          <p:cNvSpPr/>
          <p:nvPr/>
        </p:nvSpPr>
        <p:spPr>
          <a:xfrm>
            <a:off x="228600" y="76320"/>
            <a:ext cx="2743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Wind Plant Details (1/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2189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152280" y="685800"/>
          <a:ext cx="883944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883944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2"/>
          <p:cNvSpPr/>
          <p:nvPr/>
        </p:nvSpPr>
        <p:spPr>
          <a:xfrm>
            <a:off x="228600" y="76320"/>
            <a:ext cx="2743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Wind Plant Details (2/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2189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152280" y="609480"/>
          <a:ext cx="8991720" cy="62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899172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2"/>
          <p:cNvSpPr/>
          <p:nvPr/>
        </p:nvSpPr>
        <p:spPr>
          <a:xfrm>
            <a:off x="228600" y="76320"/>
            <a:ext cx="2743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Solar Plant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04920" y="838080"/>
          <a:ext cx="2590560" cy="5562720"/>
        </p:xfrm>
        <a:graphic>
          <a:graphicData uri="http://schemas.openxmlformats.org/drawingml/2006/table">
            <a:tbl>
              <a:tblPr/>
              <a:tblGrid>
                <a:gridCol w="904680"/>
                <a:gridCol w="668520"/>
                <a:gridCol w="1017360"/>
              </a:tblGrid>
              <a:tr h="233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Y_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 (In M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Chart 3" descr=""/>
          <p:cNvPicPr/>
          <p:nvPr/>
        </p:nvPicPr>
        <p:blipFill>
          <a:blip r:embed="rId1"/>
          <a:stretch/>
        </p:blipFill>
        <p:spPr>
          <a:xfrm>
            <a:off x="3127320" y="914400"/>
            <a:ext cx="5480280" cy="548640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421560" y="228600"/>
            <a:ext cx="70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Hourly Wind Generation for the Date 30.04.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7848720" y="76320"/>
            <a:ext cx="12189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228600" y="838080"/>
          <a:ext cx="2514600" cy="5791320"/>
        </p:xfrm>
        <a:graphic>
          <a:graphicData uri="http://schemas.openxmlformats.org/drawingml/2006/table">
            <a:tbl>
              <a:tblPr/>
              <a:tblGrid>
                <a:gridCol w="879480"/>
                <a:gridCol w="647640"/>
                <a:gridCol w="987480"/>
              </a:tblGrid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Y_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ar (In M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pr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" name="Chart 2" descr=""/>
          <p:cNvPicPr/>
          <p:nvPr/>
        </p:nvPicPr>
        <p:blipFill>
          <a:blip r:embed="rId1"/>
          <a:stretch/>
        </p:blipFill>
        <p:spPr>
          <a:xfrm>
            <a:off x="2670120" y="878040"/>
            <a:ext cx="6242040" cy="574812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394920" y="228600"/>
            <a:ext cx="70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Hourly Solar Generation for the Date 30.04.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7848720" y="76320"/>
            <a:ext cx="12189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F50A-20B4-48ED-A6AB-935234466F5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28600" y="193680"/>
            <a:ext cx="1428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Summary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"/>
          <p:cNvSpPr/>
          <p:nvPr/>
        </p:nvSpPr>
        <p:spPr>
          <a:xfrm>
            <a:off x="228600" y="562320"/>
            <a:ext cx="8610480" cy="612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aharashtra state renewable installed capacity is 8476 MW which is 20.12% of the total installed capacity of 42120 M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eal Time visibility of 7729 MW renewable installed capacity is available at SLDC which is 91.18% of total renewable capacity of 8476 M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emaining renewable generators ( old wind plants and small hydro/biomass plants) have been asked to provide real time data to SLD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eal time data of available renewable generation is being forwarded to the WRLDC over ICCP data link. WRLDC further forwards this data to NLDC, New Delhi over ICCP data 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aily Generation Data is being sent regularly through E-mail to CE(Operation)C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enewable real time data is also made available at website www.mahasldc.in at 15 min. time inter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hough the real time visibility is provided at SLDC by the Renewable Energy generators,  communication links from plant to SLDC are not maintained and continuous data is not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Commercial mechanism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ay be some penal charges based on availability percentage during the mon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) to maintain continuous data to SLDC needs to be developed and implemen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24000" y="2286000"/>
            <a:ext cx="14284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Data Sha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04920" y="5562720"/>
            <a:ext cx="142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alibri"/>
                <a:ea typeface="Times New Roman"/>
              </a:rPr>
              <a:t>Sugges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1"/>
          <a:stretch/>
        </p:blipFill>
        <p:spPr>
          <a:xfrm>
            <a:off x="7848720" y="76320"/>
            <a:ext cx="1218960" cy="533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399960" y="4495680"/>
            <a:ext cx="142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Issu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5T06:45:37Z</dcterms:created>
  <dc:creator>SE-SCADA</dc:creator>
  <dc:description/>
  <dc:language>en-US</dc:language>
  <cp:lastModifiedBy>ashok rajput</cp:lastModifiedBy>
  <dcterms:modified xsi:type="dcterms:W3CDTF">2018-05-06T17:10:42Z</dcterms:modified>
  <cp:revision>50</cp:revision>
  <dc:subject/>
  <dc:title>Slide 1</dc:title>
</cp:coreProperties>
</file>