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</p:sldIdLst>
  <p:sldSz cx="9144000" cy="6858000"/>
  <p:notesSz cx="9942513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0" y="0"/>
            <a:ext cx="9943200" cy="68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dt" idx="13"/>
          </p:nvPr>
        </p:nvSpPr>
        <p:spPr>
          <a:xfrm>
            <a:off x="563400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sldImg"/>
          </p:nvPr>
        </p:nvSpPr>
        <p:spPr>
          <a:xfrm>
            <a:off x="3268440" y="511200"/>
            <a:ext cx="3406680" cy="25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body"/>
          </p:nvPr>
        </p:nvSpPr>
        <p:spPr>
          <a:xfrm>
            <a:off x="993600" y="3236760"/>
            <a:ext cx="795672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 type="ftr" idx="14"/>
          </p:nvPr>
        </p:nvSpPr>
        <p:spPr>
          <a:xfrm>
            <a:off x="0" y="6471720"/>
            <a:ext cx="430848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 type="sldNum" idx="15"/>
          </p:nvPr>
        </p:nvSpPr>
        <p:spPr>
          <a:xfrm>
            <a:off x="5634000" y="6471720"/>
            <a:ext cx="4308480" cy="3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DC7B-1D08-44FF-8407-65D31DBE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6680" cy="2556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93600" y="3236760"/>
            <a:ext cx="795672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5634000" y="6472080"/>
            <a:ext cx="4308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22A-DBAB-477C-9EFA-AB36B216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FA6-942B-43F4-B643-93A6794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47F-910C-4C0A-8C78-65C77137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883-E37F-4F65-A2E3-FEBDB10F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AC3-E00D-4C2D-91A7-F5DF69FE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B3CA-FECD-4379-AB61-0E0BB9FF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1E5-CAD9-4330-AFDF-7BEF00CD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347-4A90-45E7-83CE-7434C6D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530-9D9B-4B79-9F58-5136B412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EA32-19C1-4857-BE0B-6B0ECBA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3A5-E65E-41FA-83C5-60AF75A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BD2-7A3B-4971-8F7A-E8723B7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A1A-A2BA-4EF4-95C5-0C6307D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64A-3DF8-4D3E-BD51-74C7D59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7F8B-865E-4C6A-97DF-3E64FE4E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15C6-4720-4641-B12D-A291307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71AC-3B0F-4376-912C-D034436A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7689-9C13-4576-8E03-B7FB2953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8DAF-14AA-440F-9198-1D739DEF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DBC9-8EE1-49FA-8B0E-C0072DE7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DDF6-5435-47FC-AF48-DFEFBDC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B721-4B36-47C0-AEC9-584326F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18F1-55AB-48AC-B105-173ACDE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F59-77BA-4CD3-904C-933A99D6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F298-497F-4F14-ABFA-9F7B9DF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6B13A-6650-4453-AFBE-3FCCC66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1952-9097-41A7-A48B-0B97554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81D2-6CDD-4AEE-9811-BFECE0B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5039-3A5D-4D23-8703-BEDB0D4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3955-8104-491A-B779-4D9F839C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CE22-AB1A-4336-8513-81C7221A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1101-998A-49E1-8E95-806EA6AE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25CE-E17A-4312-A625-D3A1A38B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2D82-5F8C-4D65-8A0D-2B136C4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26F-C009-4385-B49C-0613984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7506-B1D1-4282-90B2-57FDB18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92CB-DFDD-4DE7-961F-98C99961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0CE2-B10C-40E9-B216-78F2E84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F420-F96E-44A0-A1C0-DD97B9D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3E20-7BD2-4CE2-9E28-E583A4C9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8C8A-B32D-4A04-9444-432FF5F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B090-03AF-4CC7-9F94-AAB36A3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AE52-CAED-4E0F-B656-96B5531A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7D8E-54BD-4E1A-8E54-2C1F8BE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4E8-0F6F-4E4A-B721-3194BCB0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5ED-B8C0-4636-A3EB-5291C9E9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AE4-91FE-4727-946D-B09FCCD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3B4-B949-446F-8BE9-616C21E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A62-4895-4F9D-B379-2AF910D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79BE-BDBC-42FA-9485-2F542DBA92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3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7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7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8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7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7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7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0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2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2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2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8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7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7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7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DF93-5B49-4379-AE38-E91C24347FD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1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4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6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2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1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1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0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8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6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4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2639-9FDC-4F23-9906-39D105700D5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560A-C3B6-4B03-8971-D0FBA6DE33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Rectangle 13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15"/>
          <p:cNvSpPr/>
          <p:nvPr/>
        </p:nvSpPr>
        <p:spPr>
          <a:xfrm>
            <a:off x="0" y="1990440"/>
            <a:ext cx="9144000" cy="204372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FURNISHING REAL TIME/DAILY RENEWABLE ENEGRY GENER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 AS ON 01.05.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7" descr=""/>
          <p:cNvPicPr/>
          <p:nvPr/>
        </p:nvPicPr>
        <p:blipFill>
          <a:blip r:embed="rId1"/>
          <a:stretch/>
        </p:blipFill>
        <p:spPr>
          <a:xfrm>
            <a:off x="0" y="528480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212" name="Text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5400" spc="-1" strike="noStrike">
                <a:solidFill>
                  <a:srgbClr val="ffff00"/>
                </a:solidFill>
                <a:latin typeface="Arial"/>
              </a:rPr>
              <a:t>SLDC, TANTRANS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4617b"/>
                </a:solidFill>
                <a:latin typeface="Calibri"/>
              </a:rPr>
              <a:t>Real Time Wind Generation Dat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9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4617b"/>
                </a:solidFill>
                <a:latin typeface="Calibri"/>
              </a:rPr>
              <a:t>Real Time Wind Generation Dat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4617b"/>
                </a:solidFill>
                <a:latin typeface="Calibri"/>
              </a:rPr>
              <a:t>CURRENT STATUS OF REAL TIME SOLAR DATA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457200" y="1219320"/>
          <a:ext cx="8229600" cy="4775040"/>
        </p:xfrm>
        <a:graphic>
          <a:graphicData uri="http://schemas.openxmlformats.org/drawingml/2006/table">
            <a:tbl>
              <a:tblPr/>
              <a:tblGrid>
                <a:gridCol w="1711440"/>
                <a:gridCol w="4400280"/>
                <a:gridCol w="2117880"/>
              </a:tblGrid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l. 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ar Installed Capac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</a:t>
                      </a: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 time achiev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1258" name="TextBox 4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Annual Generation – more than 2500 mill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Content Placeholder 3" descr=""/>
          <p:cNvPicPr/>
          <p:nvPr/>
        </p:nvPicPr>
        <p:blipFill>
          <a:blip r:embed="rId1"/>
          <a:stretch/>
        </p:blipFill>
        <p:spPr>
          <a:xfrm>
            <a:off x="480960" y="723960"/>
            <a:ext cx="8175600" cy="5772240"/>
          </a:xfrm>
          <a:prstGeom prst="rect">
            <a:avLst/>
          </a:prstGeom>
          <a:ln w="0">
            <a:noFill/>
          </a:ln>
        </p:spPr>
      </p:pic>
      <p:pic>
        <p:nvPicPr>
          <p:cNvPr id="1260" name="Rectangle 4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2" descr="madurai_solar"/>
          <p:cNvPicPr/>
          <p:nvPr/>
        </p:nvPicPr>
        <p:blipFill>
          <a:blip r:embed="rId1"/>
          <a:stretch/>
        </p:blipFill>
        <p:spPr>
          <a:xfrm>
            <a:off x="762120" y="65160"/>
            <a:ext cx="74674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Picture 2" descr="Elavanpatty_sola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63" name="TextBox 5"/>
          <p:cNvSpPr/>
          <p:nvPr/>
        </p:nvSpPr>
        <p:spPr>
          <a:xfrm>
            <a:off x="2438280" y="2286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OLAR REAL TIME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14"/>
          <p:cNvSpPr/>
          <p:nvPr/>
        </p:nvSpPr>
        <p:spPr>
          <a:xfrm>
            <a:off x="2438280" y="2517480"/>
            <a:ext cx="4724640" cy="76428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Picture 5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133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Rectangle 3" descr=""/>
          <p:cNvPicPr/>
          <p:nvPr/>
        </p:nvPicPr>
        <p:blipFill>
          <a:blip r:embed="rId1"/>
          <a:stretch/>
        </p:blipFill>
        <p:spPr>
          <a:xfrm>
            <a:off x="324000" y="774720"/>
            <a:ext cx="8534160" cy="438120"/>
          </a:xfrm>
          <a:prstGeom prst="rect">
            <a:avLst/>
          </a:prstGeom>
          <a:ln w="0">
            <a:noFill/>
          </a:ln>
        </p:spPr>
      </p:pic>
      <p:sp>
        <p:nvSpPr>
          <p:cNvPr id="1214" name="TextBox 67"/>
          <p:cNvSpPr/>
          <p:nvPr/>
        </p:nvSpPr>
        <p:spPr>
          <a:xfrm>
            <a:off x="914400" y="6095880"/>
            <a:ext cx="7696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TN Contributes  to 16% of country’s RE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Object 3"/>
          <p:cNvGraphicFramePr/>
          <p:nvPr/>
        </p:nvGraphicFramePr>
        <p:xfrm>
          <a:off x="2209680" y="1371600"/>
          <a:ext cx="41227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371600"/>
                    <a:ext cx="412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TextBox 10"/>
          <p:cNvSpPr/>
          <p:nvPr/>
        </p:nvSpPr>
        <p:spPr>
          <a:xfrm>
            <a:off x="7462080" y="30607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14"/>
          <p:cNvSpPr/>
          <p:nvPr/>
        </p:nvSpPr>
        <p:spPr>
          <a:xfrm>
            <a:off x="914400" y="5638680"/>
            <a:ext cx="7924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RE contributes to  38% of total Installed Capacity of TamilN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3048120" y="1523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Rectangle 3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534160" cy="11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1" name="Content Placeholder 66"/>
          <p:cNvGraphicFramePr/>
          <p:nvPr/>
        </p:nvGraphicFramePr>
        <p:xfrm>
          <a:off x="1523880" y="1828800"/>
          <a:ext cx="5562720" cy="350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2" name="Content Placeholder 6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55627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TextBox 5"/>
          <p:cNvSpPr/>
          <p:nvPr/>
        </p:nvSpPr>
        <p:spPr>
          <a:xfrm>
            <a:off x="1447920" y="5943600"/>
            <a:ext cx="617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 Installed capacity – 1111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6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Annual Generation – more than 15000 mill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4617b"/>
                </a:solidFill>
                <a:latin typeface="Calibri"/>
              </a:rPr>
              <a:t>CURRENT STATUS OF REAL TIME WIND DATA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304920" y="129492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total wind installed capacity is 8152 MW, as on 31.03.2018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227" name=""/>
          <p:cNvGraphicFramePr/>
          <p:nvPr/>
        </p:nvGraphicFramePr>
        <p:xfrm>
          <a:off x="685800" y="2895480"/>
          <a:ext cx="8001000" cy="3048120"/>
        </p:xfrm>
        <a:graphic>
          <a:graphicData uri="http://schemas.openxmlformats.org/drawingml/2006/table">
            <a:tbl>
              <a:tblPr/>
              <a:tblGrid>
                <a:gridCol w="1663560"/>
                <a:gridCol w="4278600"/>
                <a:gridCol w="205884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l. 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. of 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 No. of 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 time achiev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1228" name="TextBox 4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Annual Generation – more than 12000 mill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al time data – Architecture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2" name="Picture 2" descr="\\aeld\eeld\AEMTCE\2016\REMC\AMR-Network-1.jpg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B5D6-BA8D-49B8-B4BC-7B3E97C5855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IND - REAL TIME DATA ACQUISITION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5" name="TextBox 12"/>
          <p:cNvSpPr/>
          <p:nvPr/>
        </p:nvSpPr>
        <p:spPr>
          <a:xfrm>
            <a:off x="533520" y="1600200"/>
            <a:ext cx="830556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T meters provided  in all the feeders, RE pooling 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CUs / MODEMs  installed  in all RE Pooling 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nd farm Substations / Tirunelveli / Udumalp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ribution Sub Stations / Tirunelveli / Udumalp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oling station/feeder wise meter data through the mod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ing obtained through MPLS connectiv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Tahoma"/>
                <a:ea typeface="Tahoma"/>
              </a:rPr>
              <a:t>REAL TIME DATA ACQUISITION ALTERNATE SCHE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60948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sion of SIM in DCUs and data transmission through GPRS to AMR server, and the same is viewed in the TNEB intranet port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al data connectivity to SLDC-SCADA in 104 protocol is under  testing phas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1" name="Picture 2" descr=""/>
          <p:cNvPicPr/>
          <p:nvPr/>
        </p:nvPicPr>
        <p:blipFill>
          <a:blip r:embed="rId1"/>
          <a:stretch/>
        </p:blipFill>
        <p:spPr>
          <a:xfrm>
            <a:off x="380880" y="657360"/>
            <a:ext cx="8458200" cy="57434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1242" name="TextBox 5"/>
          <p:cNvSpPr/>
          <p:nvPr/>
        </p:nvSpPr>
        <p:spPr>
          <a:xfrm>
            <a:off x="6858000" y="5105520"/>
            <a:ext cx="1981080" cy="21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AMR SER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traight Connector 9"/>
          <p:cNvSpPr/>
          <p:nvPr/>
        </p:nvSpPr>
        <p:spPr>
          <a:xfrm>
            <a:off x="7846200" y="5106960"/>
            <a:ext cx="3240" cy="2286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traight Connector 12"/>
          <p:cNvSpPr/>
          <p:nvPr/>
        </p:nvSpPr>
        <p:spPr>
          <a:xfrm flipH="1">
            <a:off x="7846560" y="5334120"/>
            <a:ext cx="3240" cy="304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2" descr="wind_elevanthy_sld"/>
          <p:cNvPicPr/>
          <p:nvPr/>
        </p:nvPicPr>
        <p:blipFill>
          <a:blip r:embed="rId1"/>
          <a:stretch/>
        </p:blipFill>
        <p:spPr>
          <a:xfrm>
            <a:off x="0" y="685800"/>
            <a:ext cx="9524880" cy="6172200"/>
          </a:xfrm>
          <a:prstGeom prst="rect">
            <a:avLst/>
          </a:prstGeom>
          <a:ln w="0">
            <a:noFill/>
          </a:ln>
        </p:spPr>
      </p:pic>
      <p:sp>
        <p:nvSpPr>
          <p:cNvPr id="1246" name="TextBox 5"/>
          <p:cNvSpPr/>
          <p:nvPr/>
        </p:nvSpPr>
        <p:spPr>
          <a:xfrm>
            <a:off x="2514600" y="228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WIND REAL TIME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9:08:07Z</dcterms:created>
  <dc:creator>aee2gp</dc:creator>
  <dc:description/>
  <dc:language>en-US</dc:language>
  <cp:lastModifiedBy>ashok rajput</cp:lastModifiedBy>
  <dcterms:modified xsi:type="dcterms:W3CDTF">2018-05-06T17:52:38Z</dcterms:modified>
  <cp:revision>822</cp:revision>
  <dc:subject/>
  <dc:title>PRESENTATION ON</dc:title>
</cp:coreProperties>
</file>